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AFC-6844-4D0C-97D5-72334308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601-6835-49E6-B2F1-71F40C8F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EAE-743E-4E2C-B34C-101F5122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79A-BF02-479C-9495-53D53BCF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08B-9135-4A32-85C5-26C8715C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CDE-276E-4DA4-A4D6-97B792D2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F4C-4599-46FF-B2F1-9BABA131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09A-6CDA-468E-ABE5-5710D8CD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111-D538-474E-903B-A87D44B0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756-FE6C-4430-A11D-2A583827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C23-784E-4465-95A4-A0491D2C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3C7-9E4E-4F39-B5D0-75B80553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1582-19E0-4A88-9BD3-2CF1FBBFEE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degra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50160" cy="4584960"/>
          </a:xfrm>
          <a:prstGeom prst="rect">
            <a:avLst/>
          </a:prstGeom>
          <a:ln w="0">
            <a:noFill/>
          </a:ln>
        </p:spPr>
      </p:pic>
      <p:sp>
        <p:nvSpPr>
          <p:cNvPr id="78" name="Rechteck 5"/>
          <p:cNvSpPr/>
          <p:nvPr/>
        </p:nvSpPr>
        <p:spPr>
          <a:xfrm>
            <a:off x="1042920" y="5877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Eine wachsende Bevölkerung kann sich den Verlus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2400" spc="-1" strike="noStrike">
                <a:solidFill>
                  <a:srgbClr val="ff0000"/>
                </a:solidFill>
                <a:latin typeface="Calibri"/>
              </a:rPr>
              <a:t>fruchtbaren Bodens nicht leist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Interaktionen zwischen globalen Umweltveränderung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3"/>
          <p:cNvSpPr/>
          <p:nvPr/>
        </p:nvSpPr>
        <p:spPr>
          <a:xfrm>
            <a:off x="7236000" y="6453360"/>
            <a:ext cx="165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WBGU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70400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Gerade Verbindung 6"/>
          <p:cNvSpPr/>
          <p:nvPr/>
        </p:nvSpPr>
        <p:spPr>
          <a:xfrm>
            <a:off x="5940360" y="2492280"/>
            <a:ext cx="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Gerade Verbindung 8"/>
          <p:cNvSpPr/>
          <p:nvPr/>
        </p:nvSpPr>
        <p:spPr>
          <a:xfrm>
            <a:off x="7164360" y="2492280"/>
            <a:ext cx="0" cy="252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Gerade Verbindung 10"/>
          <p:cNvSpPr/>
          <p:nvPr/>
        </p:nvSpPr>
        <p:spPr>
          <a:xfrm>
            <a:off x="5940360" y="2492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Gerade Verbindung 12"/>
          <p:cNvSpPr/>
          <p:nvPr/>
        </p:nvSpPr>
        <p:spPr>
          <a:xfrm>
            <a:off x="5940360" y="335772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Gerade Verbindung 14"/>
          <p:cNvSpPr/>
          <p:nvPr/>
        </p:nvSpPr>
        <p:spPr>
          <a:xfrm>
            <a:off x="5940360" y="422100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Gerade Verbindung 16"/>
          <p:cNvSpPr/>
          <p:nvPr/>
        </p:nvSpPr>
        <p:spPr>
          <a:xfrm>
            <a:off x="5940360" y="5084640"/>
            <a:ext cx="244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Gerade Verbindung 19"/>
          <p:cNvSpPr/>
          <p:nvPr/>
        </p:nvSpPr>
        <p:spPr>
          <a:xfrm>
            <a:off x="3419640" y="5805360"/>
            <a:ext cx="49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Gerade Verbindung 21"/>
          <p:cNvSpPr/>
          <p:nvPr/>
        </p:nvSpPr>
        <p:spPr>
          <a:xfrm>
            <a:off x="5940360" y="5805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Gerade Verbindung 23"/>
          <p:cNvSpPr/>
          <p:nvPr/>
        </p:nvSpPr>
        <p:spPr>
          <a:xfrm>
            <a:off x="3419640" y="6381720"/>
            <a:ext cx="37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Gerade Verbindung 25"/>
          <p:cNvSpPr/>
          <p:nvPr/>
        </p:nvSpPr>
        <p:spPr>
          <a:xfrm>
            <a:off x="7164360" y="5013360"/>
            <a:ext cx="0" cy="136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Gerade Verbindung 34"/>
          <p:cNvSpPr/>
          <p:nvPr/>
        </p:nvSpPr>
        <p:spPr>
          <a:xfrm>
            <a:off x="8388360" y="3357720"/>
            <a:ext cx="0" cy="86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Gerade Verbindung 36"/>
          <p:cNvSpPr/>
          <p:nvPr/>
        </p:nvSpPr>
        <p:spPr>
          <a:xfrm>
            <a:off x="8388360" y="5084640"/>
            <a:ext cx="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Gerade Verbindung 41"/>
          <p:cNvSpPr/>
          <p:nvPr/>
        </p:nvSpPr>
        <p:spPr>
          <a:xfrm>
            <a:off x="478800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Gerade Verbindung 43"/>
          <p:cNvSpPr/>
          <p:nvPr/>
        </p:nvSpPr>
        <p:spPr>
          <a:xfrm>
            <a:off x="3419640" y="4221000"/>
            <a:ext cx="0" cy="216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Gerade Verbindung 45"/>
          <p:cNvSpPr/>
          <p:nvPr/>
        </p:nvSpPr>
        <p:spPr>
          <a:xfrm>
            <a:off x="3419640" y="4221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Gerade Verbindung 47"/>
          <p:cNvSpPr/>
          <p:nvPr/>
        </p:nvSpPr>
        <p:spPr>
          <a:xfrm flipH="1">
            <a:off x="3419640" y="508464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oden – nachhaltige Entwick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4"/>
          <p:cNvSpPr/>
          <p:nvPr/>
        </p:nvSpPr>
        <p:spPr>
          <a:xfrm>
            <a:off x="1908000" y="6308640"/>
            <a:ext cx="468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Ute Stoltenberg, in Stoltenberg/ Thielebein-Pohl: KITA21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r haben Boden gut zu mach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schutz in Deutschland und Euro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ndwirtschaftspolitik in Europ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ternationaler Bodenschu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z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 verliere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109" name="Gerade Verbindung 7"/>
          <p:cNvSpPr/>
          <p:nvPr/>
        </p:nvSpPr>
        <p:spPr>
          <a:xfrm flipV="1">
            <a:off x="2916360" y="227628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Gerade Verbindung 9"/>
          <p:cNvSpPr/>
          <p:nvPr/>
        </p:nvSpPr>
        <p:spPr>
          <a:xfrm>
            <a:off x="2916360" y="2276640"/>
            <a:ext cx="324000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ufga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‚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denlo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ir dürfen keinen Boden unter den Füß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verlieren, wir müssen Boden gut machen!‘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Überprüfen Sie diese These u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bewerten Sie die Erfolgsaussich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timmen Sie die zu untersuchenden Syndrom-Beispie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Expertengruppen (,Forscherteam‘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nalysieren Sie das ausgewählte Syndrom-Beispiel (z.B. AB 1-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in Anlehnung an das ‚Globale Beziehungsgeflecht‘ (M2/AB-0) ein Wirkungsgefüge zum ausgewählten Syndrom-Beispiel (z.B. als Wandplakat/ Folie/ DIN A4-Skizze für Visualize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Arbeiten Sie mithilfe von geeigneten Karten (z.B. Terra 2010, S. 206/12, Atlas) weitere Regionen heraus, in denen das ausgewählte Syndrom möglicherweise auftrit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schreiben und begründen Sie mögliche Prognosen für einen möglichen weiteren Syndrom-Verlau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llen Sie eigene Handlungskonzepte mit dem Ziel eine weitere nicht nachhaltige Syndrom-Entwicklung zu vermeid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Vorgehensweise: </a:t>
            </a:r>
            <a:br>
              <a:rPr sz="4000"/>
            </a:br>
            <a:r>
              <a:rPr b="1" lang="de-DE" sz="4000" spc="-1" strike="noStrike">
                <a:solidFill>
                  <a:srgbClr val="ff0000"/>
                </a:solidFill>
                <a:latin typeface="Calibri"/>
              </a:rPr>
              <a:t>Gruppenpuzzle mit Rollenspi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Stammgruppe (‚Bundestag‘, evtl. Lehrkraft als Bundeskanzler/-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alibri"/>
              </a:rPr>
              <a:t>zum Hinterfragen, Steuern des Ablau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Präsentieren Sie die Ergebnisse der Expertenteams (pro Expertenteam ca. 5-7 Min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örtern Sie die Realisierbarkeit, Chancen bzw. Probleme  der vorgeschlagenen Lösungsansätze. (pro Expertenteam ca. 5-7 Min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Benennen Sie in einem kurzen Diskurs die für Ihr Lebensumfeld wichtigsten Handlungskonzepte und ordnen Sie diese gemäß ihrer Dringlichkeit (kurz-, mittel-, langfristig, ca. 5-7 Min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ormulieren Sie eine Handlungsempfehlung an die Bundesregierung. (evtl. Lehrkraft als Bundeskanzler/-in  Hausaufgab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(5.evtl. mit Protokollant/-in (‚Presse‘) und Kamera- Dokument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alibri"/>
              </a:rPr>
              <a:t>Boden aktuel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073240" y="1600200"/>
            <a:ext cx="49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4"/>
          <p:cNvSpPr/>
          <p:nvPr/>
        </p:nvSpPr>
        <p:spPr>
          <a:xfrm>
            <a:off x="3635280" y="6093000"/>
            <a:ext cx="482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(Quelle: Population Reference Bureau, 2011 in Stiftung Weltbevölkerung, 201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97080" cy="28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5670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91600" cy="4803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 foot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611280" y="6237360"/>
            <a:ext cx="76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feld 8"/>
          <p:cNvSpPr/>
          <p:nvPr/>
        </p:nvSpPr>
        <p:spPr>
          <a:xfrm>
            <a:off x="395280" y="609300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Sustainable Europe Research Institute (SERI),2011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feld 5"/>
          <p:cNvSpPr/>
          <p:nvPr/>
        </p:nvSpPr>
        <p:spPr>
          <a:xfrm>
            <a:off x="3059280" y="4797360"/>
            <a:ext cx="583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Effektive Land-Nachfrage in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Deutschland ( 82 Mio. E. )</a:t>
            </a:r>
            <a:r>
              <a:rPr b="1" lang="de-DE" sz="2000" spc="-1" strike="noStrike">
                <a:solidFill>
                  <a:srgbClr val="ff0000"/>
                </a:solidFill>
                <a:latin typeface="Calibri"/>
              </a:rPr>
              <a:t>Ø 1,2 ha p.P./ Ø 103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China (1,3 Mrd. E. ) 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4 ha p.P. /Ø 518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alibri"/>
              </a:rPr>
              <a:t>Indien ( 1,1 Mrd. E.)        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Ø 0,2 ha p.P./Ø 200 Mio.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lächenverfügbark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3640" y="1341360"/>
            <a:ext cx="3106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50 werden nur noch 0,15 ha pro Person verfügbar sein (FA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2025 werden ca.740 Mio. Menschen von Landknappheit betroffen se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mer mehr Menschen steht immer weniger Ackerfläche zur Verfüg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5330880" cy="3301920"/>
          </a:xfrm>
          <a:prstGeom prst="rect">
            <a:avLst/>
          </a:prstGeom>
          <a:ln w="0">
            <a:noFill/>
          </a:ln>
        </p:spPr>
      </p:pic>
      <p:sp>
        <p:nvSpPr>
          <p:cNvPr id="56" name="Textfeld 6"/>
          <p:cNvSpPr/>
          <p:nvPr/>
        </p:nvSpPr>
        <p:spPr>
          <a:xfrm>
            <a:off x="3708360" y="4581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Dt. Stiftung Weltbevölkerung, 1999, Population Action International, 200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feld 8"/>
          <p:cNvSpPr/>
          <p:nvPr/>
        </p:nvSpPr>
        <p:spPr>
          <a:xfrm>
            <a:off x="2484360" y="551664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Böden sind global unter Dru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ndwirtschaftliche Nutz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37,7% der weltweiten Landfläche, d.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4,9 Mrd. ha gelten als landwirtschaftliche Nutzflä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69,4 %, d.h. 3,4 Mrd. ha sind Dauergrü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28,6 %, d.h. 1,4 Mrd. ha sind Ack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0,9%, d.h. 152 Mio. ha sind permanente Ackerkultu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3"/>
          <p:cNvSpPr/>
          <p:nvPr/>
        </p:nvSpPr>
        <p:spPr>
          <a:xfrm>
            <a:off x="6443640" y="5013360"/>
            <a:ext cx="1800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</a:t>
            </a:r>
            <a:r>
              <a:rPr b="0" i="1" lang="de-DE" sz="1100" spc="-1" strike="noStrike">
                <a:solidFill>
                  <a:srgbClr val="000000"/>
                </a:solidFill>
                <a:latin typeface="Calibri"/>
              </a:rPr>
              <a:t>FAOSTAT,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755640" y="5589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Konkurrenz um Teller, Trog und T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Können alle Menschen noch satt werd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eu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 Milliarde Menschen hungernd 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 MilliardenMenschen mit Mangel-und Fehlernähr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steigender Fleischkon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8"/>
          <p:cNvSpPr/>
          <p:nvPr/>
        </p:nvSpPr>
        <p:spPr>
          <a:xfrm>
            <a:off x="900000" y="42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Nahrungsbedar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de-DE" sz="3200" spc="-1" strike="noStrike">
                <a:solidFill>
                  <a:srgbClr val="ff0000"/>
                </a:solidFill>
                <a:latin typeface="Calibri"/>
              </a:rPr>
              <a:t>+ 42% bis 2030 + 70% bis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9"/>
          <p:cNvSpPr/>
          <p:nvPr/>
        </p:nvSpPr>
        <p:spPr>
          <a:xfrm>
            <a:off x="5580000" y="5516640"/>
            <a:ext cx="201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alibri"/>
              </a:rPr>
              <a:t>(Quelle: FAOSTAT 20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eltbevölkerung – Planet E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1412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eigende Nachf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feld 4"/>
          <p:cNvSpPr/>
          <p:nvPr/>
        </p:nvSpPr>
        <p:spPr>
          <a:xfrm>
            <a:off x="3132000" y="23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lächenkonkurren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feld 7"/>
          <p:cNvSpPr/>
          <p:nvPr/>
        </p:nvSpPr>
        <p:spPr>
          <a:xfrm>
            <a:off x="3419640" y="321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utzungsdr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feld 8"/>
          <p:cNvSpPr/>
          <p:nvPr/>
        </p:nvSpPr>
        <p:spPr>
          <a:xfrm>
            <a:off x="324000" y="4437000"/>
            <a:ext cx="86407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Bodendegradieru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d.h. Verlust von Bodenfunktionen un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odenleistun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de-DE" sz="3600" spc="-1" strike="noStrike">
                <a:solidFill>
                  <a:srgbClr val="ff0000"/>
                </a:solidFill>
                <a:latin typeface="Calibri"/>
              </a:rPr>
              <a:t>abnehmende Bodenproduktivitä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feld 10"/>
          <p:cNvSpPr/>
          <p:nvPr/>
        </p:nvSpPr>
        <p:spPr>
          <a:xfrm>
            <a:off x="5219640" y="1484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grenztes Angeb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feil nach links und rechts 11"/>
          <p:cNvSpPr/>
          <p:nvPr/>
        </p:nvSpPr>
        <p:spPr>
          <a:xfrm>
            <a:off x="4211640" y="1628640"/>
            <a:ext cx="865080" cy="287640"/>
          </a:xfrm>
          <a:prstGeom prst="leftRightArrow">
            <a:avLst>
              <a:gd name="adj1" fmla="val 50000"/>
              <a:gd name="adj2" fmla="val 50125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feil nach unten 12"/>
          <p:cNvSpPr/>
          <p:nvPr/>
        </p:nvSpPr>
        <p:spPr>
          <a:xfrm>
            <a:off x="4427640" y="20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feil nach unten 13"/>
          <p:cNvSpPr/>
          <p:nvPr/>
        </p:nvSpPr>
        <p:spPr>
          <a:xfrm>
            <a:off x="4427640" y="2852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feil nach unten 14"/>
          <p:cNvSpPr/>
          <p:nvPr/>
        </p:nvSpPr>
        <p:spPr>
          <a:xfrm>
            <a:off x="4427640" y="386064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17:22Z</dcterms:created>
  <dc:creator>GEO-Seminar Schmidt</dc:creator>
  <dc:description/>
  <dc:language>en-US</dc:language>
  <cp:lastModifiedBy>Manz</cp:lastModifiedBy>
  <dcterms:modified xsi:type="dcterms:W3CDTF">2012-11-08T13:11:14Z</dcterms:modified>
  <cp:revision>73</cp:revision>
  <dc:subject/>
  <dc:title>Boden aktuell</dc:title>
</cp:coreProperties>
</file>